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4.jpeg" ContentType="image/jpeg"/>
  <Override PartName="/ppt/media/image2.png" ContentType="image/png"/>
  <Override PartName="/ppt/embeddings/oleObject1.bin" ContentType="application/vnd.openxmlformats-officedocument.oleObject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4006-715C-4276-9DAC-A04419952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3826-FE07-4171-B83A-302B5881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E110-9F17-41FD-B888-B4D57459E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1363-7015-4D25-A5D8-8250794E7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6C63-2557-47D3-8F82-1004C4CC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86E8-2C86-4FA1-A566-9E2F2EF8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FDF4-3D86-4D7E-8431-9B91C49D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782B-51A6-4A42-A4C3-8EBE0A93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AF0C-3298-48B2-AA38-88031698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7C45-E71F-4E52-BC1A-C6B67CD8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EC0C-5868-4D6F-9E6B-C6669AF7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D257-8B70-4588-9CE3-2E45A828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481D-760D-4E9F-8103-34DA3214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E714-6904-4304-985A-031A3011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AC68-8BC1-4532-B18E-86F63101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A3BC-2EE8-4CD5-AC8D-1110852E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8949-FE9A-4D20-8910-3075FED82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7AAA4-07A6-470C-8B3A-DE9F0972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4246E-6159-4CEA-B7E5-E293DF44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9E1A8-FA13-402B-93E7-E40A9AE7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6C4A5-E9F5-4641-9E2A-B0A52120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27E55-C6FF-40CC-B7B7-43474022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3B55-9E10-4A38-9735-BBC6F25F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034BD-5A82-441B-BFEA-68D649C7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B6FB6-DD0B-493C-83AA-1EE7D03C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1894D-48E0-4FFE-BC44-25711526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B7BF0-7E5F-47A7-BD0D-8882D4B7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E731A-EC37-4F76-BFC4-525F7394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ABBCC-E461-4C2C-8489-02CC7DDDF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256CF-9B55-4EAE-B4F8-ED1774BD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5049F-543F-4FA6-8AF2-9C9B8451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818CF-E4EA-4276-9305-D1AA23EA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A814B-5FD2-4439-B049-E9205F5F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707E-F5CA-4E48-82C6-F6673D07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3CEC4-6742-4B26-9370-DB98185D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9539D-0215-4A94-A5B3-8DCB2C66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733EB-9E9F-4578-B02E-C43F1C18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A6537-0F5B-4951-8539-738F032E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2C834-CEB6-4FD1-B470-858217AF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FEB65-B039-490D-AD17-98D085D8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B5CF9-AD73-417F-A0CD-4F7AC3BB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B73E7-E3E7-44E5-9DE9-DBB0C8758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B730A-933B-423C-BACA-C7AA24A4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0751-16A0-492F-87DE-80A86E7C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8E9E-B6E7-4EF3-B68E-8D695D5B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416A-9489-4027-9A6E-2B3E9319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F6F5-8642-4B87-8A67-E0F9EC74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81C5-7B22-43A6-9DA7-C77965BD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B673-9629-4BE7-A6A6-B83FF47681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7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5F0F-F792-43A7-9DD1-8297CAB03E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6920" y="6165720"/>
            <a:ext cx="2358360" cy="621360"/>
            <a:chOff x="196920" y="6165720"/>
            <a:chExt cx="2358360" cy="621360"/>
          </a:xfrm>
        </p:grpSpPr>
        <p:graphicFrame>
          <p:nvGraphicFramePr>
            <p:cNvPr id="51" name=""/>
            <p:cNvGraphicFramePr/>
            <p:nvPr/>
          </p:nvGraphicFramePr>
          <p:xfrm>
            <a:off x="196920" y="6165720"/>
            <a:ext cx="588240" cy="539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920" y="616572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"/>
            <p:cNvSpPr/>
            <p:nvPr/>
          </p:nvSpPr>
          <p:spPr>
            <a:xfrm>
              <a:off x="759240" y="641880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5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7AAD-A3C5-4C64-B4F1-08288337CE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98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4EBD-FD15-4C55-8FDC-033FFDFD87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142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4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5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secure.iquiero.com/peru/modules/services/security_privacy.asp" TargetMode="External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95640" y="2536920"/>
            <a:ext cx="4749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TECNOLOGIA Y NEGOCIOS”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643280" y="4724280"/>
            <a:ext cx="41767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Cesar Rodrígu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Gerente Desarrollo de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Visanet del Per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11280" y="1717560"/>
            <a:ext cx="2411280" cy="358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26E67-0D8B-4930-9C21-3DCDCED8EAB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116000" y="1322280"/>
            <a:ext cx="6264360" cy="469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E6602-532F-481D-A4B2-E7017A7FBA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5ffff"/>
                </a:solidFill>
                <a:latin typeface="Tahoma"/>
              </a:rPr>
              <a:t>Verified by Vis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564000" y="3213000"/>
          <a:ext cx="2232000" cy="122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3213000"/>
                    <a:ext cx="223200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9DC08-3925-4F82-8B4C-F2BA3DABC2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57360" y="1206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4320" y="692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Transacción VbV…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22400" y="126828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1280" y="3421080"/>
            <a:ext cx="2905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1.Agregar un producto al carri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3114720" y="1292400"/>
            <a:ext cx="2925720" cy="2193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051440" y="3433680"/>
            <a:ext cx="1311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2.Registrar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6107040" y="13064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341040" y="3429000"/>
            <a:ext cx="2602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3. Importe Total en el Carri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122400" y="37004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86760" y="5850000"/>
            <a:ext cx="295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4. Ingresar Tarjeta y vencimi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3135240" y="37130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614040" y="5850000"/>
            <a:ext cx="2113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5. Ingresar Contraseñ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6124680" y="37130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6352920" y="5843520"/>
            <a:ext cx="2631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6. Pantalla final de respues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03240" y="3137040"/>
            <a:ext cx="235080" cy="120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11720" y="2305080"/>
            <a:ext cx="635040" cy="235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2165400"/>
            <a:ext cx="1295280" cy="5619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05040" y="4683240"/>
            <a:ext cx="838080" cy="171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19600" y="4740120"/>
            <a:ext cx="571320" cy="142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43680" y="4403880"/>
            <a:ext cx="1219320" cy="371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C13F1-5811-4E09-B839-F05BD99314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Adopción de VbV a nivel Global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1544760"/>
            <a:ext cx="863280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61 países representan el 99% del mercado global de e-commer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763640" y="2781360"/>
          <a:ext cx="5991120" cy="357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2781360"/>
                    <a:ext cx="599112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BFEFD-7026-42CF-BBAA-117244570E0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Algunas sugerencias para los </a:t>
            </a:r>
            <a:br>
              <a:rPr sz="3200"/>
            </a:b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comercios electrónico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19120" y="198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dores nue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s más grandes que las norm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s con muchos items repet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dores apur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irecciones internacio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7885F-3DAB-4F7F-A474-75497DD878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143240" y="2536920"/>
            <a:ext cx="4749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Visa, Por que la Tecnología es Ahora”</a:t>
            </a:r>
            <a:br>
              <a:rPr sz="32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Aplicaciones globales para 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el mercado local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643280" y="5180040"/>
            <a:ext cx="41767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Cesar Rodrígu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Gerente Desarrollo de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Visanet del Per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3961080" cy="3240000"/>
          </a:xfrm>
          <a:prstGeom prst="rect">
            <a:avLst/>
          </a:prstGeom>
          <a:ln w="38160">
            <a:solidFill>
              <a:srgbClr val="6699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A307C-885B-4D63-B9DE-2F1A4E9B1EEA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presencia de las nuevas tecnologías en la sociedad es cada vez más perceptible y no sólo afecta a factores económicos y empresariales como la producción, la distribución, el mercado o el empleo, sino que comienza a convertirse en piedra angular de cualquier actividad humana modern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Printed Circuit Board"/>
          <p:cNvPicPr/>
          <p:nvPr/>
        </p:nvPicPr>
        <p:blipFill>
          <a:blip r:embed="rId2"/>
          <a:stretch/>
        </p:blipFill>
        <p:spPr>
          <a:xfrm>
            <a:off x="5724360" y="1844640"/>
            <a:ext cx="29592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BC57C-D3F1-42F1-8B15-35F199BE65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24160" y="44784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46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desarrollo tecnológico como la Internet, las comunicaciones móviles, banda ancha, satélites, las microondas, etc.– estan produciendo cambios significativos en la estructura económica y social, y en el conjunto de las relaciones socia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amos ante un nuevo modelo social, l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"sociedad globalizada"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en el que las fronteras desaparecen en beneficio de los intercambios de ideas, mensajes, productos, servicios, personas..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scifi112"/>
          <p:cNvPicPr/>
          <p:nvPr/>
        </p:nvPicPr>
        <p:blipFill>
          <a:blip r:embed="rId2"/>
          <a:stretch/>
        </p:blipFill>
        <p:spPr>
          <a:xfrm>
            <a:off x="5651640" y="2519280"/>
            <a:ext cx="3168360" cy="220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F781B-7992-4501-AAA3-AD64F08CB5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62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Oportunidades que brind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ejora de los procesos de negocio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Con el uso de las nuevas tecnologías, se tiene la gran oportunidad de redefinir los procesos de negocio mejorándolos importantemente y reduciendo sus cos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ejora de las acciones de comunicación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uede emplear Internet para la mejora de las comunicaciones tanto con los clientes como con los proveedores. Esto repercutirá directamente en los costes de comunicación reduciéndolos drásticam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Fidelización de los clientes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estos momentos, ninguna organización puede permitirse perder clientes. Para ello, tener las correctas estrategias de fidelización de clientes apoyadas por las nuevas tecnologías e Internet puede ser definitiv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C2FB6-F8E4-44D6-8B98-46ACCC6113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3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Oportunidades que brind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Captación de clientes a costes "razonables"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mpleando Internet para el desarrollo de acciones a un coste interesante, lo que repercutirá en los ingresos de la empresa con una inversión, y por tanto riesgo, permisib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Reducción de costes de compras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cias a la eliminación de intermediarios, descubrimiento de nuevos proveedores y al uso de subastas en las tiendas virtuales (e-marketplaces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0229D-DF18-440B-81DB-A3E3229A54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46040" y="1622520"/>
            <a:ext cx="7935840" cy="44085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68360" y="1647720"/>
          <a:ext cx="8155080" cy="451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647720"/>
                    <a:ext cx="815508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438120" y="387360"/>
            <a:ext cx="796284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actores Determinantes en </a:t>
            </a:r>
            <a:br>
              <a:rPr sz="3200"/>
            </a:b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la Compra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virt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619280" y="4024440"/>
            <a:ext cx="2322360" cy="1008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20960" y="35924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3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46A8C-805E-4069-83BA-4F36045FF9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14080" y="1847520"/>
            <a:ext cx="792468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os tipos de fraude más comunes son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) El uso de tarjetas de crédito robada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b) Utilización de identidades falsas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) Software generador de números de tarje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) Paginas clonad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79280" y="611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raude en la Internet: Mito o Realida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24000" y="4094280"/>
            <a:ext cx="2146320" cy="1422360"/>
            <a:chOff x="324000" y="4094280"/>
            <a:chExt cx="2146320" cy="1422360"/>
          </a:xfrm>
        </p:grpSpPr>
        <p:sp>
          <p:nvSpPr>
            <p:cNvPr id="205" name=""/>
            <p:cNvSpPr/>
            <p:nvPr/>
          </p:nvSpPr>
          <p:spPr>
            <a:xfrm>
              <a:off x="324000" y="4094280"/>
              <a:ext cx="214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utenticación del Tarjetahabiente 95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684360" y="4640040"/>
              <a:ext cx="1368360" cy="87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2627280" y="4075200"/>
            <a:ext cx="1765440" cy="1338120"/>
            <a:chOff x="2627280" y="4075200"/>
            <a:chExt cx="1765440" cy="1338120"/>
          </a:xfrm>
        </p:grpSpPr>
        <p:sp>
          <p:nvSpPr>
            <p:cNvPr id="208" name=""/>
            <p:cNvSpPr/>
            <p:nvPr/>
          </p:nvSpPr>
          <p:spPr>
            <a:xfrm>
              <a:off x="2627280" y="4075200"/>
              <a:ext cx="1765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utenticación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del Comercio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%</a:t>
              </a: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209" name=""/>
            <p:cNvGraphicFramePr/>
            <p:nvPr/>
          </p:nvGraphicFramePr>
          <p:xfrm>
            <a:off x="3065400" y="4749840"/>
            <a:ext cx="960480" cy="66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65400" y="4749840"/>
                      <a:ext cx="9604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1" name=""/>
          <p:cNvGrpSpPr/>
          <p:nvPr/>
        </p:nvGrpSpPr>
        <p:grpSpPr>
          <a:xfrm>
            <a:off x="4716360" y="4075560"/>
            <a:ext cx="1798560" cy="936000"/>
            <a:chOff x="4716360" y="4075560"/>
            <a:chExt cx="1798560" cy="936000"/>
          </a:xfrm>
        </p:grpSpPr>
        <p:sp>
          <p:nvSpPr>
            <p:cNvPr id="212" name=""/>
            <p:cNvSpPr/>
            <p:nvPr/>
          </p:nvSpPr>
          <p:spPr>
            <a:xfrm>
              <a:off x="4851360" y="4686120"/>
              <a:ext cx="1465200" cy="325440"/>
            </a:xfrm>
            <a:prstGeom prst="leftRightArrow">
              <a:avLst>
                <a:gd name="adj1" fmla="val 50000"/>
                <a:gd name="adj2" fmla="val 8962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16360" y="4075560"/>
              <a:ext cx="179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Encripción del Canal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1%</a:t>
              </a: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800760" y="4065480"/>
            <a:ext cx="2019240" cy="1739880"/>
            <a:chOff x="6800760" y="4065480"/>
            <a:chExt cx="2019240" cy="1739880"/>
          </a:xfrm>
        </p:grpSpPr>
        <p:sp>
          <p:nvSpPr>
            <p:cNvPr id="215" name=""/>
            <p:cNvSpPr/>
            <p:nvPr/>
          </p:nvSpPr>
          <p:spPr>
            <a:xfrm>
              <a:off x="7376760" y="5075280"/>
              <a:ext cx="979200" cy="730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00760" y="4065480"/>
              <a:ext cx="201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taques a la base de datos del Comercio (Ejemplo, Hacker)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C59FE-B022-48B5-BB39-A7C6679213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14080" y="1847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simismo el 47% cree que añadiendo un logo o icono de algunas soluciones dedicadas a la seguridad en las transacciones y que influyan en la confianza del usuario ayudarían a suavizar el miedo de los consumidore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79280" y="611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raude en la Internet: Mito o Realida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187280" y="4149720"/>
            <a:ext cx="1081080" cy="10555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3780000" y="4221000"/>
            <a:ext cx="822240" cy="936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96000" y="4005360"/>
            <a:ext cx="793800" cy="12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7C0D5-9347-480D-992A-1C70946558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50920" y="762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Requisitos de Seguridad en los Pag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5360" y="198900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atro Princip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5360" y="285264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utenticación del Comer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5360" y="334800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cripción del ca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" y="437832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utenticación del 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360" y="334800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cripción del ca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80196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ase de datos ( Información del clien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043E2-56AB-44E0-A47C-92DABFBB27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9:48:55Z</dcterms:created>
  <dc:creator>crodriguez</dc:creator>
  <dc:description/>
  <dc:language>en-US</dc:language>
  <cp:lastModifiedBy>jore</cp:lastModifiedBy>
  <dcterms:modified xsi:type="dcterms:W3CDTF">2004-11-25T13:21:24Z</dcterms:modified>
  <cp:revision>51</cp:revision>
  <dc:subject/>
  <dc:title>Visa, Por que la Tecnología es ahora, aplicaciones globales para el mercado local</dc:title>
</cp:coreProperties>
</file>